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D690-C69D-41E3-9996-E1130100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25EB-BE57-4829-9A63-37E8792C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BA1-6F82-4251-A6B0-86BC49E4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1CC8-7799-4F9C-B3A5-761D1D6C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4BE6-A792-4220-9321-990A8FA1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372F-0A7E-41E2-986F-21474F97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336A-DF4F-4DF2-B92C-12D5F4C0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19E2-2128-402A-B401-3412633D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EF9E-20A3-4453-831A-1FB93167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D0B0-F733-4668-8F55-B84B3A45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DD07-9B6E-4A4B-A979-49CAF9BD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F270-26B2-4E98-9FEB-830E4018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0AF3-448D-468F-9E0E-796B4E16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4761-5DAB-4A4B-AEC9-64E96F4D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D90B-E499-4C06-A7A9-CAFB8466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8F53-FAE1-49E9-B436-638EE77D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84B9-7816-449D-B7C6-FE088058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F92A-CB68-4F57-9C3C-976F0305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3883-F2F2-494E-9E10-3A7DC037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32BC-6C1A-4C46-BC23-D7A9B3FF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DE2B-457D-47F0-AA41-0242BD7B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850D-61E5-4975-BAFA-2C53055F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5EBA-CD60-40AA-AE8D-50C46DE2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D3CA-0FCF-4A04-A78A-6C9C4B84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63C3-049B-45B5-8BE1-0DA708B38D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D3AC-BD82-4DC7-B346-FDF79DADC1A8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7184" descr="wfta"/>
          <p:cNvPicPr/>
          <p:nvPr/>
        </p:nvPicPr>
        <p:blipFill>
          <a:blip r:embed="rId1"/>
          <a:stretch/>
        </p:blipFill>
        <p:spPr>
          <a:xfrm>
            <a:off x="228600" y="380880"/>
            <a:ext cx="8686800" cy="5818320"/>
          </a:xfrm>
          <a:prstGeom prst="rect">
            <a:avLst/>
          </a:prstGeom>
          <a:ln w="0">
            <a:noFill/>
          </a:ln>
        </p:spPr>
      </p:pic>
      <p:sp>
        <p:nvSpPr>
          <p:cNvPr id="83" name="矩形 7177"/>
          <p:cNvSpPr txBox="1"/>
          <p:nvPr/>
        </p:nvSpPr>
        <p:spPr>
          <a:xfrm>
            <a:off x="1523880" y="1143000"/>
            <a:ext cx="472464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人生</a:t>
            </a:r>
            <a:endParaRPr b="0" lang="en-US" sz="1800" spc="1" strike="noStrike">
              <a:ln w="1260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4" name="矩形 7178"/>
          <p:cNvSpPr txBox="1"/>
          <p:nvPr/>
        </p:nvSpPr>
        <p:spPr>
          <a:xfrm>
            <a:off x="4191120" y="4876920"/>
            <a:ext cx="3047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勃兰兑斯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-380880"/>
            <a:ext cx="289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716f09"/>
                </a:solidFill>
                <a:latin typeface="Arial"/>
                <a:ea typeface="华文新魏"/>
              </a:rPr>
              <a:t>走近作者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勃兰兑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1842—1927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）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丹麦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文学批评家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文学史家。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出生于犹太血统的商人家庭。在哥本哈根大学攻读法律、哲学、美学，受黑格尔影响较深。大学毕业后，到欧洲各地旅行，在法国结识了泰纳（丹纳）。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1871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年回国在哥本哈根大学任教，讲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十九世纪文学主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》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。这部巨著共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卷，即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《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流亡文学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》《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德国的浪漫派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》《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法国的反动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》《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英国的自然主义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》《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法国浪漫派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》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和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《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青年德意志</a:t>
            </a: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华文新魏"/>
              </a:rPr>
              <a:t>》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华文新魏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693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新魏"/>
              </a:rPr>
              <a:t>读准字音，掌握字型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瞻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望 （       ）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攫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取（     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鲑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鱼 （      ）   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滞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（      ）   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臆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测 （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             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）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馈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赠 （     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文本框 23556"/>
          <p:cNvSpPr/>
          <p:nvPr/>
        </p:nvSpPr>
        <p:spPr>
          <a:xfrm>
            <a:off x="2133720" y="189864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zh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ā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文本框 23557"/>
          <p:cNvSpPr/>
          <p:nvPr/>
        </p:nvSpPr>
        <p:spPr>
          <a:xfrm>
            <a:off x="6004080" y="1905120"/>
            <a:ext cx="86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ju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é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文本框 23558"/>
          <p:cNvSpPr/>
          <p:nvPr/>
        </p:nvSpPr>
        <p:spPr>
          <a:xfrm>
            <a:off x="2346480" y="2971800"/>
            <a:ext cx="100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gu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ī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文本框 23559"/>
          <p:cNvSpPr/>
          <p:nvPr/>
        </p:nvSpPr>
        <p:spPr>
          <a:xfrm>
            <a:off x="6156360" y="2971800"/>
            <a:ext cx="100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zh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ì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文本框 23561"/>
          <p:cNvSpPr/>
          <p:nvPr/>
        </p:nvSpPr>
        <p:spPr>
          <a:xfrm>
            <a:off x="2422440" y="3962520"/>
            <a:ext cx="72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y ì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文本框 23562"/>
          <p:cNvSpPr/>
          <p:nvPr/>
        </p:nvSpPr>
        <p:spPr>
          <a:xfrm>
            <a:off x="6232680" y="3962520"/>
            <a:ext cx="100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ku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ì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01680" y="380880"/>
            <a:ext cx="85406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解释词语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停滞不前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乐此不疲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粉身碎骨：                                                                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赏心悦目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微不足道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25800" indent="-3258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瞻望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文本框 24579"/>
          <p:cNvSpPr/>
          <p:nvPr/>
        </p:nvSpPr>
        <p:spPr>
          <a:xfrm>
            <a:off x="3048120" y="990720"/>
            <a:ext cx="5638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80674"/>
                </a:solidFill>
                <a:latin typeface="Arial"/>
              </a:rPr>
              <a:t>受到阻碍，不能顺利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80674"/>
                </a:solidFill>
                <a:latin typeface="Arial"/>
              </a:rPr>
              <a:t>进行和发展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文本框 24581"/>
          <p:cNvSpPr/>
          <p:nvPr/>
        </p:nvSpPr>
        <p:spPr>
          <a:xfrm>
            <a:off x="2590920" y="24382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喜欢做某事而不知疲倦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文本框 24582"/>
          <p:cNvSpPr/>
          <p:nvPr/>
        </p:nvSpPr>
        <p:spPr>
          <a:xfrm>
            <a:off x="2514600" y="29718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80674"/>
                </a:solidFill>
                <a:latin typeface="Arial"/>
              </a:rPr>
              <a:t>身体粉碎，指死。形容为了达到目的而不惜牺牲生命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文本框 24583"/>
          <p:cNvSpPr/>
          <p:nvPr/>
        </p:nvSpPr>
        <p:spPr>
          <a:xfrm>
            <a:off x="2727360" y="4038480"/>
            <a:ext cx="61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指美好的情景使人心情愉快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文本框 24584"/>
          <p:cNvSpPr/>
          <p:nvPr/>
        </p:nvSpPr>
        <p:spPr>
          <a:xfrm>
            <a:off x="2590920" y="4724280"/>
            <a:ext cx="55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80674"/>
                </a:solidFill>
                <a:latin typeface="Arial"/>
              </a:rPr>
              <a:t>物细小而轻微，不足挂齿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文本框 24585"/>
          <p:cNvSpPr/>
          <p:nvPr/>
        </p:nvSpPr>
        <p:spPr>
          <a:xfrm>
            <a:off x="1828800" y="5486400"/>
            <a:ext cx="7010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往远处看或往高处看或往将来看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14340"/>
          <p:cNvSpPr/>
          <p:nvPr/>
        </p:nvSpPr>
        <p:spPr>
          <a:xfrm>
            <a:off x="376200" y="2514600"/>
            <a:ext cx="831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想一想文中都从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哪些方面为喻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来写人生，分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几个场面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来写？交流初读本文的 感受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文本框 14341"/>
          <p:cNvSpPr/>
          <p:nvPr/>
        </p:nvSpPr>
        <p:spPr>
          <a:xfrm>
            <a:off x="990720" y="106668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仿宋_GB2312"/>
              </a:rPr>
              <a:t>朗读课文、理清思路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  <a:ea typeface="仿宋_GB2312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文本框 3075"/>
          <p:cNvSpPr/>
          <p:nvPr/>
        </p:nvSpPr>
        <p:spPr>
          <a:xfrm>
            <a:off x="324000" y="26028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全文按所描写的场面自然地分为四个部分：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文本框 3076"/>
          <p:cNvSpPr/>
          <p:nvPr/>
        </p:nvSpPr>
        <p:spPr>
          <a:xfrm>
            <a:off x="395280" y="1052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第一部分（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段）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描述人类攀登高塔的情景，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说明人类生命表现形式尽管千万别，但其中又有共同性和必然性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文本框 3081"/>
          <p:cNvSpPr/>
          <p:nvPr/>
        </p:nvSpPr>
        <p:spPr>
          <a:xfrm>
            <a:off x="231840" y="5950080"/>
            <a:ext cx="866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文本框 3082"/>
          <p:cNvSpPr/>
          <p:nvPr/>
        </p:nvSpPr>
        <p:spPr>
          <a:xfrm>
            <a:off x="304920" y="249228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第二部分（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段）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描述一些人深入地挖掘、探寻地下坑道的情景，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表现他们不屈不挠、顽强奋斗的精神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文本框 3083"/>
          <p:cNvSpPr/>
          <p:nvPr/>
        </p:nvSpPr>
        <p:spPr>
          <a:xfrm>
            <a:off x="447840" y="3933720"/>
            <a:ext cx="84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第三部分（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段）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描述一些人在广阔的领域开拓进取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，他们攫取更多的土地，征服更多的人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文本框 3084"/>
          <p:cNvSpPr/>
          <p:nvPr/>
        </p:nvSpPr>
        <p:spPr>
          <a:xfrm>
            <a:off x="324000" y="494172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第四部分（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段）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描述一些在一种工场中劳动的人们，</a:t>
            </a:r>
            <a:r>
              <a:rPr b="1" lang="zh-CN" sz="2800" spc="-1" strike="noStrike">
                <a:solidFill>
                  <a:srgbClr val="007a77"/>
                </a:solidFill>
                <a:latin typeface="黑体"/>
                <a:ea typeface="黑体"/>
              </a:rPr>
              <a:t>表现他们的刻苦勤奋、吃苦耐劳的精神品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文本框 5123"/>
          <p:cNvSpPr/>
          <p:nvPr/>
        </p:nvSpPr>
        <p:spPr>
          <a:xfrm>
            <a:off x="324000" y="1268280"/>
            <a:ext cx="84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．作者把人生比作攀高塔，你认为这个比喻是否恰切？为什么</a:t>
            </a:r>
            <a:r>
              <a:rPr b="0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？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文本框 5124"/>
          <p:cNvSpPr/>
          <p:nvPr/>
        </p:nvSpPr>
        <p:spPr>
          <a:xfrm>
            <a:off x="152280" y="2700360"/>
            <a:ext cx="88394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宋体"/>
              </a:rPr>
              <a:t>这个比喻较为恰切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宋体"/>
              </a:rPr>
              <a:t>把人生比作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攀登</a:t>
            </a:r>
            <a:r>
              <a:rPr b="1" lang="en-US" sz="4400" spc="-1" strike="noStrike">
                <a:solidFill>
                  <a:srgbClr val="002060"/>
                </a:solidFill>
                <a:latin typeface="宋体"/>
              </a:rPr>
              <a:t>(</a:t>
            </a:r>
            <a:r>
              <a:rPr b="1" lang="zh-CN" sz="4400" spc="-1" strike="noStrike">
                <a:solidFill>
                  <a:srgbClr val="002060"/>
                </a:solidFill>
                <a:latin typeface="宋体"/>
              </a:rPr>
              <a:t>是一般性的比喻</a:t>
            </a:r>
            <a:r>
              <a:rPr b="1" lang="en-US" sz="4400" spc="-1" strike="noStrike">
                <a:solidFill>
                  <a:srgbClr val="002060"/>
                </a:solidFill>
                <a:latin typeface="宋体"/>
              </a:rPr>
              <a:t>)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宋体"/>
              </a:rPr>
              <a:t>把人生比作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攀登高塔</a:t>
            </a:r>
            <a:r>
              <a:rPr b="1" lang="en-US" sz="4400" spc="-1" strike="noStrike">
                <a:solidFill>
                  <a:srgbClr val="180674"/>
                </a:solidFill>
                <a:latin typeface="宋体"/>
              </a:rPr>
              <a:t>(</a:t>
            </a:r>
            <a:r>
              <a:rPr b="1" lang="zh-CN" sz="4400" spc="-1" strike="noStrike">
                <a:solidFill>
                  <a:srgbClr val="002060"/>
                </a:solidFill>
                <a:latin typeface="宋体"/>
              </a:rPr>
              <a:t>设喻奇特</a:t>
            </a:r>
            <a:r>
              <a:rPr b="1" lang="en-US" sz="4400" spc="-1" strike="noStrike">
                <a:solidFill>
                  <a:srgbClr val="002060"/>
                </a:solidFill>
                <a:latin typeface="宋体"/>
              </a:rPr>
              <a:t>)</a:t>
            </a:r>
            <a:r>
              <a:rPr b="1" lang="en-US" sz="4000" spc="-1" strike="noStrike">
                <a:solidFill>
                  <a:srgbClr val="00206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2060"/>
                </a:solidFill>
                <a:latin typeface="宋体"/>
              </a:rPr>
              <a:t>，含蓄地阐明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人生就是一个不断进取、不断登高的过程</a:t>
            </a:r>
            <a:r>
              <a:rPr b="1" lang="zh-CN" sz="4000" spc="-1" strike="noStrike">
                <a:solidFill>
                  <a:srgbClr val="002060"/>
                </a:solidFill>
                <a:latin typeface="宋体"/>
              </a:rPr>
              <a:t>，同时也形象地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表现出人生道路的艰难、漫长</a:t>
            </a:r>
            <a:r>
              <a:rPr b="1" lang="zh-CN" sz="4000" spc="-1" strike="noStrike">
                <a:solidFill>
                  <a:srgbClr val="002060"/>
                </a:solidFill>
                <a:latin typeface="宋体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文本框 5132"/>
          <p:cNvSpPr/>
          <p:nvPr/>
        </p:nvSpPr>
        <p:spPr>
          <a:xfrm>
            <a:off x="457200" y="38088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问题探究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文本框 6147"/>
          <p:cNvSpPr/>
          <p:nvPr/>
        </p:nvSpPr>
        <p:spPr>
          <a:xfrm>
            <a:off x="592200" y="225360"/>
            <a:ext cx="2971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文本框 6148"/>
          <p:cNvSpPr/>
          <p:nvPr/>
        </p:nvSpPr>
        <p:spPr>
          <a:xfrm>
            <a:off x="519120" y="9810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．</a:t>
            </a:r>
            <a:r>
              <a:rPr b="1" lang="zh-CN" sz="4400" spc="-1" strike="noStrike">
                <a:solidFill>
                  <a:srgbClr val="007a77"/>
                </a:solidFill>
                <a:latin typeface="黑体"/>
                <a:ea typeface="黑体"/>
              </a:rPr>
              <a:t>“越往上走，攀登越困难了，而且目光已不大能区别事物，它们看起来似乎都是相同的。”为什么说都是相同的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文本框 6150"/>
          <p:cNvSpPr/>
          <p:nvPr/>
        </p:nvSpPr>
        <p:spPr>
          <a:xfrm>
            <a:off x="539640" y="4038480"/>
            <a:ext cx="8299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往上走”意味着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年龄的增长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，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越老经历的事越多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，所以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见到各种事物都“似曾相识”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。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8423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  </a:t>
            </a: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．“从精神上来说，他们是停留</a:t>
            </a:r>
            <a:br>
              <a:rPr sz="4000"/>
            </a:b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在同一个地方。”这话是什么意思？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1680" y="2666880"/>
            <a:ext cx="8540640" cy="34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黑体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人们随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年事的增高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，自身在许多方面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会有很多改变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，但是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性格、志趣、品质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总是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很难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或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很少改变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的。这里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精神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”应指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性格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之类的东西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文本框 19459"/>
          <p:cNvSpPr/>
          <p:nvPr/>
        </p:nvSpPr>
        <p:spPr>
          <a:xfrm>
            <a:off x="519120" y="1143000"/>
            <a:ext cx="816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    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4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挖掘坑道、征服广阔领域、在工场劳作的三种人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各有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什么样的精神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？是指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什么样的人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？你可以从实际生活中为这三种人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补充几个例子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黑体"/>
              </a:rPr>
              <a:t>吗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文本框 16387"/>
          <p:cNvSpPr/>
          <p:nvPr/>
        </p:nvSpPr>
        <p:spPr>
          <a:xfrm>
            <a:off x="147600" y="836640"/>
            <a:ext cx="899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深入地挖掘、探寻地下坑道的人具有怎样的性格特点？是指什么样的人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文本框 16388"/>
          <p:cNvSpPr/>
          <p:nvPr/>
        </p:nvSpPr>
        <p:spPr>
          <a:xfrm>
            <a:off x="1828800" y="2492280"/>
            <a:ext cx="677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不屈不挠、顽强奋斗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为了事业而忘却生命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文本框 16389"/>
          <p:cNvSpPr/>
          <p:nvPr/>
        </p:nvSpPr>
        <p:spPr>
          <a:xfrm>
            <a:off x="539640" y="4299120"/>
            <a:ext cx="849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从事研究工作，进行较为抽象的脑力劳动，也就是像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阿基米德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那样的科学家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14340"/>
          <p:cNvSpPr/>
          <p:nvPr/>
        </p:nvSpPr>
        <p:spPr>
          <a:xfrm>
            <a:off x="376200" y="2514600"/>
            <a:ext cx="8310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想一想文中都从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哪些方面为喻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来写人生，分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几个场面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来写？交流初读本文的 感受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文本框 14341"/>
          <p:cNvSpPr/>
          <p:nvPr/>
        </p:nvSpPr>
        <p:spPr>
          <a:xfrm>
            <a:off x="990720" y="106668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仿宋_GB2312"/>
              </a:rPr>
              <a:t>朗读课文、理清思路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  <a:ea typeface="仿宋_GB2312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01680" y="761760"/>
            <a:ext cx="4194000" cy="53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761760"/>
            <a:ext cx="4194000" cy="53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80"/>
                </a:solidFill>
                <a:latin typeface="Arial"/>
              </a:rPr>
              <a:t>公元前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212</a:t>
            </a:r>
            <a:r>
              <a:rPr b="1" lang="zh-CN" sz="4000" spc="-1" strike="noStrike">
                <a:solidFill>
                  <a:srgbClr val="000080"/>
                </a:solidFill>
                <a:latin typeface="Arial"/>
              </a:rPr>
              <a:t>年，古罗马军队攻陷叙拉古，正在聚精会神研究科学问题的阿基米德，不幸被蛮横的罗马士兵杀死，终年七十五岁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6" name="图片 50180" descr="archimedes"/>
          <p:cNvPicPr/>
          <p:nvPr/>
        </p:nvPicPr>
        <p:blipFill>
          <a:blip r:embed="rId1"/>
          <a:stretch/>
        </p:blipFill>
        <p:spPr>
          <a:xfrm>
            <a:off x="304920" y="533520"/>
            <a:ext cx="42670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12291"/>
          <p:cNvSpPr/>
          <p:nvPr/>
        </p:nvSpPr>
        <p:spPr>
          <a:xfrm>
            <a:off x="468360" y="549360"/>
            <a:ext cx="86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在广阔的领域开拓进取的人具有怎样的性格特点？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是指什么样的人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文本框 12292"/>
          <p:cNvSpPr/>
          <p:nvPr/>
        </p:nvSpPr>
        <p:spPr>
          <a:xfrm>
            <a:off x="755640" y="1844640"/>
            <a:ext cx="792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一是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贪欲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：占有欲极强，渴望征服，           喜欢掌握权力，控制人和事物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二是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坚强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：精力充沛，头脑活跃，爱冒险，热爱生活，勇敢地面对生活的挑战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文本框 12295"/>
          <p:cNvSpPr/>
          <p:nvPr/>
        </p:nvSpPr>
        <p:spPr>
          <a:xfrm>
            <a:off x="685800" y="4952880"/>
            <a:ext cx="811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军事家、政治家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，像恺撒大帝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秦始皇、汉武帝等。</a:t>
            </a:r>
            <a:r>
              <a:rPr b="0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505320" y="153720"/>
            <a:ext cx="574344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公元前一世纪中叶的罗马，暴君沙拉大肆搜捕他在政治上的敌人，年轻的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恺撒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因为受到牵连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被捕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，沙拉命令手下将军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庞培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处死恺撒，但庞培被恺撒的英勇气概所感动，悄悄让他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连夜出逃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。沙拉死后他回到罗马，他的女儿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朱莉娅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为帮助父亲在政治上发展，委身于庞培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恺撒终于登上权力的宝座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与庞培共同统治罗马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。埃及女王以身相许，恺撒由此得以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将埃及疆土并入罗马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。但最终，在元老院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恺撒死于布鲁托斯等人的匕首下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，此后罗马正式进入帝制。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年轻时的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恺撒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不畏强权，征战无数，终于顺利征服罗马，称霸大帝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1" name="图片 56327" descr="DVD05546恺撒大帝"/>
          <p:cNvPicPr/>
          <p:nvPr/>
        </p:nvPicPr>
        <p:blipFill>
          <a:blip r:embed="rId1"/>
          <a:stretch/>
        </p:blipFill>
        <p:spPr>
          <a:xfrm>
            <a:off x="0" y="333360"/>
            <a:ext cx="3505320" cy="304812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56324" descr="NewsMedia_236862恺撒"/>
          <p:cNvPicPr/>
          <p:nvPr/>
        </p:nvPicPr>
        <p:blipFill>
          <a:blip r:embed="rId2"/>
          <a:stretch/>
        </p:blipFill>
        <p:spPr>
          <a:xfrm>
            <a:off x="0" y="3505320"/>
            <a:ext cx="3505320" cy="2819160"/>
          </a:xfrm>
          <a:prstGeom prst="rect">
            <a:avLst/>
          </a:prstGeom>
          <a:ln w="0">
            <a:noFill/>
          </a:ln>
        </p:spPr>
      </p:pic>
      <p:sp>
        <p:nvSpPr>
          <p:cNvPr id="153" name="文本框 56328"/>
          <p:cNvSpPr/>
          <p:nvPr/>
        </p:nvSpPr>
        <p:spPr>
          <a:xfrm>
            <a:off x="0" y="3505320"/>
            <a:ext cx="3505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军事家、政治家恺撒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文本占位符 53252" descr=""/>
          <p:cNvPicPr/>
          <p:nvPr/>
        </p:nvPicPr>
        <p:blipFill>
          <a:blip r:embed="rId1"/>
          <a:stretch/>
        </p:blipFill>
        <p:spPr>
          <a:xfrm>
            <a:off x="228600" y="409680"/>
            <a:ext cx="6629400" cy="5838840"/>
          </a:xfrm>
          <a:prstGeom prst="rect">
            <a:avLst/>
          </a:prstGeom>
          <a:ln w="0">
            <a:noFill/>
          </a:ln>
        </p:spPr>
      </p:pic>
      <p:pic>
        <p:nvPicPr>
          <p:cNvPr id="155" name="对象 53253" descr=""/>
          <p:cNvPicPr/>
          <p:nvPr/>
        </p:nvPicPr>
        <p:blipFill>
          <a:blip r:embed="rId2"/>
          <a:stretch/>
        </p:blipFill>
        <p:spPr>
          <a:xfrm>
            <a:off x="3809880" y="457200"/>
            <a:ext cx="5334120" cy="5791320"/>
          </a:xfrm>
          <a:prstGeom prst="rect">
            <a:avLst/>
          </a:prstGeom>
          <a:ln w="0">
            <a:noFill/>
          </a:ln>
        </p:spPr>
      </p:pic>
      <p:sp>
        <p:nvSpPr>
          <p:cNvPr id="156" name="文本框 53254"/>
          <p:cNvSpPr/>
          <p:nvPr/>
        </p:nvSpPr>
        <p:spPr>
          <a:xfrm>
            <a:off x="3184560" y="4495680"/>
            <a:ext cx="230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灭六国，统一天下，建立了中国历史上第一个统一的多民族的中央集权的国家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01680" y="685440"/>
            <a:ext cx="419400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400640" y="533160"/>
            <a:ext cx="4441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66"/>
                </a:solidFill>
                <a:latin typeface="Arial"/>
                <a:ea typeface="_x000b__x000c_"/>
              </a:rPr>
              <a:t>汉武帝名叫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_x000b__x000c_"/>
              </a:rPr>
              <a:t>刘彻</a:t>
            </a:r>
            <a:r>
              <a:rPr b="1" lang="zh-CN" sz="3200" spc="-1" strike="noStrike">
                <a:solidFill>
                  <a:srgbClr val="666666"/>
                </a:solidFill>
                <a:latin typeface="Arial"/>
                <a:ea typeface="_x000b__x000c_"/>
              </a:rPr>
              <a:t>，是汉朝开国皇帝汉高祖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_x000b__x000c_"/>
              </a:rPr>
              <a:t>刘邦的曾孙</a:t>
            </a:r>
            <a:r>
              <a:rPr b="1" lang="zh-CN" sz="3200" spc="-1" strike="noStrike">
                <a:solidFill>
                  <a:srgbClr val="666666"/>
                </a:solidFill>
                <a:latin typeface="Arial"/>
                <a:ea typeface="_x000b__x000c_"/>
              </a:rPr>
              <a:t>。公元前</a:t>
            </a:r>
            <a:r>
              <a:rPr b="1" lang="en-US" sz="3200" spc="-1" strike="noStrike">
                <a:solidFill>
                  <a:srgbClr val="666666"/>
                </a:solidFill>
                <a:latin typeface="Arial"/>
                <a:ea typeface="_x000b__x000c_"/>
              </a:rPr>
              <a:t>141</a:t>
            </a:r>
            <a:r>
              <a:rPr b="1" lang="zh-CN" sz="3200" spc="-1" strike="noStrike">
                <a:solidFill>
                  <a:srgbClr val="666666"/>
                </a:solidFill>
                <a:latin typeface="Arial"/>
                <a:ea typeface="_x000b__x000c_"/>
              </a:rPr>
              <a:t>年在他父亲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_x000b__x000c_"/>
              </a:rPr>
              <a:t>汉景帝</a:t>
            </a:r>
            <a:r>
              <a:rPr b="1" lang="zh-CN" sz="3200" spc="-1" strike="noStrike">
                <a:solidFill>
                  <a:srgbClr val="666666"/>
                </a:solidFill>
                <a:latin typeface="Arial"/>
                <a:ea typeface="_x000b__x000c_"/>
              </a:rPr>
              <a:t>死后，便由他做了皇帝，那时他还只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_x000b__x000c_"/>
              </a:rPr>
              <a:t>十六岁</a:t>
            </a:r>
            <a:r>
              <a:rPr b="1" lang="zh-CN" sz="3200" spc="-1" strike="noStrike">
                <a:solidFill>
                  <a:srgbClr val="666666"/>
                </a:solidFill>
                <a:latin typeface="Arial"/>
                <a:ea typeface="_x000b__x000c_"/>
              </a:rPr>
              <a:t>。从那一年起到公元前</a:t>
            </a:r>
            <a:r>
              <a:rPr b="1" lang="en-US" sz="3200" spc="-1" strike="noStrike">
                <a:solidFill>
                  <a:srgbClr val="666666"/>
                </a:solidFill>
                <a:latin typeface="Arial"/>
                <a:ea typeface="_x000b__x000c_"/>
              </a:rPr>
              <a:t>8</a:t>
            </a:r>
            <a:r>
              <a:rPr b="1" lang="zh-CN" sz="3200" spc="-1" strike="noStrike">
                <a:solidFill>
                  <a:srgbClr val="666666"/>
                </a:solidFill>
                <a:latin typeface="Arial"/>
                <a:ea typeface="_x000b__x000c_"/>
              </a:rPr>
              <a:t>７年他死时止，他总共做了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_x000b__x000c_"/>
              </a:rPr>
              <a:t>五十四年</a:t>
            </a:r>
            <a:r>
              <a:rPr b="1" lang="zh-CN" sz="3200" spc="-1" strike="noStrike">
                <a:solidFill>
                  <a:srgbClr val="666666"/>
                </a:solidFill>
                <a:latin typeface="Arial"/>
                <a:ea typeface="_x000b__x000c_"/>
              </a:rPr>
              <a:t>皇帝，占了整个西汉王朝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_x000b__x000c_"/>
              </a:rPr>
              <a:t>四分之一</a:t>
            </a:r>
            <a:r>
              <a:rPr b="1" lang="zh-CN" sz="3200" spc="-1" strike="noStrike">
                <a:solidFill>
                  <a:srgbClr val="666666"/>
                </a:solidFill>
                <a:latin typeface="Arial"/>
                <a:ea typeface="_x000b__x000c_"/>
              </a:rPr>
              <a:t>的时间。</a:t>
            </a:r>
            <a:br>
              <a:rPr sz="3200"/>
            </a:br>
            <a:r>
              <a:rPr b="1" lang="zh-CN" sz="32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9" name="图片 54277" descr="200502030021_276440汉武帝"/>
          <p:cNvPicPr/>
          <p:nvPr/>
        </p:nvPicPr>
        <p:blipFill>
          <a:blip r:embed="rId1"/>
          <a:stretch/>
        </p:blipFill>
        <p:spPr>
          <a:xfrm>
            <a:off x="304920" y="457200"/>
            <a:ext cx="42670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文本框 17411"/>
          <p:cNvSpPr/>
          <p:nvPr/>
        </p:nvSpPr>
        <p:spPr>
          <a:xfrm>
            <a:off x="663480" y="608040"/>
            <a:ext cx="815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在一种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工场中劳动的人们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具有怎样的性格特点？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是指什么样的人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文本框 17412"/>
          <p:cNvSpPr/>
          <p:nvPr/>
        </p:nvSpPr>
        <p:spPr>
          <a:xfrm>
            <a:off x="914400" y="2286000"/>
            <a:ext cx="667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刻苦勤奋、吃苦耐劳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文本框 17414"/>
          <p:cNvSpPr/>
          <p:nvPr/>
        </p:nvSpPr>
        <p:spPr>
          <a:xfrm>
            <a:off x="685800" y="3733920"/>
            <a:ext cx="7773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技术工人、工艺师、设计师、发明家，如</a:t>
            </a: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爱迪生、张衡、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毕升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等。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01680" y="609120"/>
            <a:ext cx="8461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 Unicode MS"/>
              </a:rPr>
              <a:t>爱迪生</a:t>
            </a:r>
            <a:r>
              <a:rPr b="1" lang="zh-CN" sz="3200" spc="-1" strike="noStrike">
                <a:solidFill>
                  <a:srgbClr val="0000ff"/>
                </a:solidFill>
                <a:latin typeface="Arial Unicode MS"/>
              </a:rPr>
              <a:t>是位举世闻名的</a:t>
            </a:r>
            <a:r>
              <a:rPr b="1" lang="zh-CN" sz="3200" spc="-1" strike="noStrike">
                <a:solidFill>
                  <a:srgbClr val="ff0000"/>
                </a:solidFill>
                <a:latin typeface="Arial Unicode MS"/>
              </a:rPr>
              <a:t>美国电学家和发明家</a:t>
            </a:r>
            <a:r>
              <a:rPr b="1" lang="zh-CN" sz="3200" spc="-1" strike="noStrike">
                <a:solidFill>
                  <a:srgbClr val="0000ff"/>
                </a:solidFill>
                <a:latin typeface="Arial Unicode MS"/>
              </a:rPr>
              <a:t>，他除了在</a:t>
            </a:r>
            <a:r>
              <a:rPr b="1" lang="zh-CN" sz="3200" spc="-1" strike="noStrike">
                <a:solidFill>
                  <a:srgbClr val="ff0000"/>
                </a:solidFill>
                <a:latin typeface="Arial Unicode MS"/>
              </a:rPr>
              <a:t>留声机、电灯、电 话、电报、电影</a:t>
            </a:r>
            <a:r>
              <a:rPr b="1" lang="zh-CN" sz="3200" spc="-1" strike="noStrike">
                <a:solidFill>
                  <a:srgbClr val="0000ff"/>
                </a:solidFill>
                <a:latin typeface="Arial Unicode MS"/>
              </a:rPr>
              <a:t>等方面的发明和贡献以外，在矿业、建筑业、化工等领域也有不少著名的创造和真知灼见。爱迪生一生共有约</a:t>
            </a:r>
            <a:r>
              <a:rPr b="1" lang="zh-CN" sz="3200" spc="-1" strike="noStrike">
                <a:solidFill>
                  <a:srgbClr val="ff0000"/>
                </a:solidFill>
                <a:latin typeface="Arial Unicode MS"/>
              </a:rPr>
              <a:t>两千项创造发明</a:t>
            </a:r>
            <a:r>
              <a:rPr b="1" lang="zh-CN" sz="3200" spc="-1" strike="noStrike">
                <a:solidFill>
                  <a:srgbClr val="0000ff"/>
                </a:solidFill>
                <a:latin typeface="Arial Unicode MS"/>
              </a:rPr>
              <a:t>，为人类的文明和进步作出了巨大的贡献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4" name="图片 57352" descr="图片1"/>
          <p:cNvPicPr/>
          <p:nvPr/>
        </p:nvPicPr>
        <p:blipFill>
          <a:blip r:embed="rId1"/>
          <a:stretch/>
        </p:blipFill>
        <p:spPr>
          <a:xfrm>
            <a:off x="0" y="4048200"/>
            <a:ext cx="914400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0456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张衡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公元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78—139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字平子，南阳西鄂人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今河南省南阳市石桥镇夏村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曾任尚书和河间相等职。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我国东汉时期伟大的科学家、文学家、发明家和政治家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在地震学方面，他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发明创造了“地动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公元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13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，是世界上第一架测定地震及方位的仪器，比欧洲早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170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多年。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cc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6" name="图片 58372" descr="zhang张衡"/>
          <p:cNvPicPr/>
          <p:nvPr/>
        </p:nvPicPr>
        <p:blipFill>
          <a:blip r:embed="rId1"/>
          <a:stretch/>
        </p:blipFill>
        <p:spPr>
          <a:xfrm>
            <a:off x="5486400" y="762120"/>
            <a:ext cx="36576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733560" y="609120"/>
            <a:ext cx="5181480" cy="54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毕升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?-1051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发明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活字印刷术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是中国对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世界文明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一大贡献。毕升生活在雕版印刷全盛时期的宋朝。他在总结前人和当时雕版印刷经验的基础上，经过反复试验，发明了活字印刷术。这种方法很快传遍世界，使印刷技术发生了巨大变革。</a:t>
            </a:r>
            <a:br>
              <a:rPr sz="3200"/>
            </a:br>
            <a:r>
              <a:rPr b="1" lang="zh-CN" sz="32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8" name="图片 59396" descr="rw-bsx1毕升"/>
          <p:cNvPicPr/>
          <p:nvPr/>
        </p:nvPicPr>
        <p:blipFill>
          <a:blip r:embed="rId1"/>
          <a:stretch/>
        </p:blipFill>
        <p:spPr>
          <a:xfrm>
            <a:off x="304920" y="990720"/>
            <a:ext cx="3352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文本框 63489"/>
          <p:cNvSpPr/>
          <p:nvPr/>
        </p:nvSpPr>
        <p:spPr>
          <a:xfrm>
            <a:off x="395280" y="18900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本文运用比喻的手法，以此代表人生各个方面的种种人：首先，作者把人生比作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  <a:ea typeface="楷体_GB2312"/>
              </a:rPr>
              <a:t>          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揭示人类追求生命的表现形式千变万化，又有</a:t>
            </a:r>
            <a:r>
              <a:rPr b="1" lang="zh-CN" sz="3600" spc="-1" strike="noStrike">
                <a:solidFill>
                  <a:srgbClr val="750437"/>
                </a:solidFill>
                <a:latin typeface="Arial"/>
                <a:ea typeface="楷体_GB2312"/>
              </a:rPr>
              <a:t>相似性、一致性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的特点。其次，用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  <a:ea typeface="楷体_GB2312"/>
              </a:rPr>
              <a:t>              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 比喻</a:t>
            </a:r>
            <a:r>
              <a:rPr b="1" lang="zh-CN" sz="3600" spc="-1" strike="noStrike">
                <a:solidFill>
                  <a:srgbClr val="750437"/>
                </a:solidFill>
                <a:latin typeface="Arial"/>
                <a:ea typeface="楷体_GB2312"/>
              </a:rPr>
              <a:t>从事研究工作，进行较为抽象脑力劳动的人们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。再次，用征服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Arial"/>
                <a:ea typeface="楷体_GB2312"/>
              </a:rPr>
              <a:t>        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的人比喻</a:t>
            </a:r>
            <a:r>
              <a:rPr b="1" lang="zh-CN" sz="3600" spc="-1" strike="noStrike">
                <a:solidFill>
                  <a:srgbClr val="750437"/>
                </a:solidFill>
                <a:latin typeface="Arial"/>
                <a:ea typeface="楷体_GB2312"/>
              </a:rPr>
              <a:t>军事家、政治家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。最后，作者用</a:t>
            </a:r>
            <a:r>
              <a:rPr b="1" lang="zh-CN" sz="3600" spc="-1" strike="noStrike">
                <a:solidFill>
                  <a:srgbClr val="750437"/>
                </a:solidFill>
                <a:latin typeface="Arial"/>
                <a:ea typeface="楷体_GB2312"/>
              </a:rPr>
              <a:t>在工场劳动的人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比喻</a:t>
            </a:r>
            <a:r>
              <a:rPr b="1" lang="zh-CN" sz="1800" spc="-1" strike="noStrike" u="sng">
                <a:solidFill>
                  <a:srgbClr val="007a77"/>
                </a:solidFill>
                <a:uFillTx/>
                <a:latin typeface="Arial"/>
              </a:rPr>
              <a:t>                                                                                                    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楷体_GB2312"/>
              </a:rPr>
              <a:t>作者运用比喻含蓄、贴切地表达自己对人生的看法，新颖、奇特、形象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文本框 63490"/>
          <p:cNvSpPr/>
          <p:nvPr/>
        </p:nvSpPr>
        <p:spPr>
          <a:xfrm>
            <a:off x="1332000" y="1268280"/>
            <a:ext cx="22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攀登高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文本框 63491"/>
          <p:cNvSpPr/>
          <p:nvPr/>
        </p:nvSpPr>
        <p:spPr>
          <a:xfrm>
            <a:off x="2266920" y="24922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挖掘坑道的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文本框 63492"/>
          <p:cNvSpPr/>
          <p:nvPr/>
        </p:nvSpPr>
        <p:spPr>
          <a:xfrm>
            <a:off x="1763640" y="35020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广阔领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文本框 63493"/>
          <p:cNvSpPr/>
          <p:nvPr/>
        </p:nvSpPr>
        <p:spPr>
          <a:xfrm>
            <a:off x="2843280" y="4292640"/>
            <a:ext cx="63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技术工人、工艺师、设计师、发明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495320" y="685440"/>
            <a:ext cx="403884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庄子说</a:t>
            </a: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:“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人生天地之间，若白驹之过隙，忽然而已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。”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8" name="图片 29702" descr="37庄子"/>
          <p:cNvPicPr/>
          <p:nvPr/>
        </p:nvPicPr>
        <p:blipFill>
          <a:blip r:embed="rId1"/>
          <a:stretch/>
        </p:blipFill>
        <p:spPr>
          <a:xfrm>
            <a:off x="228600" y="609480"/>
            <a:ext cx="3962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文本框 13315"/>
          <p:cNvSpPr/>
          <p:nvPr/>
        </p:nvSpPr>
        <p:spPr>
          <a:xfrm>
            <a:off x="735120" y="441360"/>
            <a:ext cx="786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．作者描述这些人群，肯定或赞扬了什么精神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文本框 13316"/>
          <p:cNvSpPr/>
          <p:nvPr/>
        </p:nvSpPr>
        <p:spPr>
          <a:xfrm>
            <a:off x="663480" y="2205000"/>
            <a:ext cx="8085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作者想借此来肯定或赞扬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对时光的珍惜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，对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生命的热爱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，赞扬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勤于劳作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的精神，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辛苦探索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的精神，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勇敢倔强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的精神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308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      </a:t>
            </a:r>
            <a:br>
              <a:rPr sz="4400"/>
            </a:b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作者虚写四种场景，三大人 群，便表达了作者对人生的深刻理解，这叫什么写法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仿宋_GB2312"/>
              </a:rPr>
              <a:t>? </a:t>
            </a: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1680" y="2133360"/>
            <a:ext cx="8540640" cy="39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仿宋_GB2312"/>
              </a:rPr>
              <a:t>按说还可以描写更多的人的生活场景。作者只是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仿宋_GB2312"/>
              </a:rPr>
              <a:t>举例性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仿宋_GB2312"/>
              </a:rPr>
              <a:t>作简单概述，突出这几种人的特点和优秀品质，表达了他的人生志向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仿宋_GB2312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仿宋_GB2312"/>
              </a:rPr>
              <a:t>这是</a:t>
            </a:r>
            <a:r>
              <a:rPr b="1" i="1" lang="zh-CN" sz="4400" spc="-1" strike="noStrike">
                <a:solidFill>
                  <a:srgbClr val="ff3300"/>
                </a:solidFill>
                <a:latin typeface="Arial"/>
                <a:ea typeface="仿宋_GB2312"/>
              </a:rPr>
              <a:t>以小见大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仿宋_GB2312"/>
              </a:rPr>
              <a:t>的写法。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文本框 2051"/>
          <p:cNvSpPr/>
          <p:nvPr/>
        </p:nvSpPr>
        <p:spPr>
          <a:xfrm>
            <a:off x="1023840" y="549360"/>
            <a:ext cx="635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文章主旨</a:t>
            </a:r>
            <a:r>
              <a:rPr b="1" lang="zh-CN" sz="5400" spc="-1" strike="noStrike">
                <a:solidFill>
                  <a:srgbClr val="007a77"/>
                </a:solidFill>
                <a:latin typeface="华文新魏"/>
                <a:ea typeface="华文新魏"/>
              </a:rPr>
              <a:t> 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文本框 2052"/>
          <p:cNvSpPr/>
          <p:nvPr/>
        </p:nvSpPr>
        <p:spPr>
          <a:xfrm>
            <a:off x="539640" y="152388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课文以“高塔”“地洞”“广阔领域”和“工场”为喻，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不同的角度、视野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，描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人的生命旅程的不同境况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，表达了作者对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人的生命本质、对人类社会生活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的深刻理解，表达了他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对生命的珍爱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的情感，以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让一生过得更有意义的信念和志向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5260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ff"/>
                </a:solidFill>
                <a:latin typeface="Arial"/>
              </a:rPr>
              <a:t>拓展延伸：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1680" y="1066680"/>
            <a:ext cx="8385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仿宋_GB2312"/>
              </a:rPr>
              <a:t>人生是什么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仿宋_GB2312"/>
              </a:rPr>
              <a:t>?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仿宋_GB2312"/>
              </a:rPr>
              <a:t>这是一个古老而永恒的话题。曹操赋诗</a:t>
            </a:r>
            <a:r>
              <a:rPr b="1" lang="zh-CN" sz="40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“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仿宋_GB2312"/>
              </a:rPr>
              <a:t>对酒当歌，人生几何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仿宋_GB2312"/>
              </a:rPr>
              <a:t>?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仿宋_GB2312"/>
              </a:rPr>
              <a:t>譬如朝露，去日苦多。</a:t>
            </a:r>
            <a:r>
              <a:rPr b="1" lang="zh-CN" sz="4000" spc="-1" strike="noStrike">
                <a:solidFill>
                  <a:srgbClr val="007a77"/>
                </a:solidFill>
                <a:latin typeface="仿宋_GB2312"/>
                <a:ea typeface="仿宋_GB2312"/>
              </a:rPr>
              <a:t>”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仿宋_GB2312"/>
              </a:rPr>
              <a:t>以发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仿宋_GB2312"/>
              </a:rPr>
              <a:t>人生苦短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仿宋_GB2312"/>
              </a:rPr>
              <a:t>的慨叹。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学习了这篇文章，你把人生比作什么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7a77"/>
                </a:solidFill>
                <a:latin typeface="宋体"/>
              </a:rPr>
              <a:t>请你也试写几句有深意的文字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矩形 25605"/>
          <p:cNvSpPr txBox="1"/>
          <p:nvPr/>
        </p:nvSpPr>
        <p:spPr>
          <a:xfrm>
            <a:off x="1219320" y="5181480"/>
            <a:ext cx="7315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看看谁写得最好！</a:t>
            </a:r>
            <a:endParaRPr b="0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人生就像树叶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样经历了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新绿、翠绿、深绿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直到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枯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然后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叶落归根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人年轻的时候，就好像新芽后的嫩绿树叶，不断地吸收着外界的阳光、水分和空气，使劲往上攒动；慢慢地，从青年步入壮年，再到中年，浑身的绿开始变得厚重了，那是一种别样的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丰韵美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是一种不露而艳的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成熟美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。人的一生只需要将属于自己的那片绿叶尽量保持得圆润和丰盈，而不必在乎这片叶子到底是挂在树尖还是树梢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矩形 31747"/>
          <p:cNvSpPr txBox="1"/>
          <p:nvPr/>
        </p:nvSpPr>
        <p:spPr>
          <a:xfrm>
            <a:off x="533520" y="304920"/>
            <a:ext cx="52578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2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有人说</a:t>
            </a:r>
            <a:r>
              <a:rPr b="0" lang="en-US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人生就像树叶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1680" y="1295280"/>
            <a:ext cx="854064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对于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远古的人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它是一部扑朔迷离的神话。女娲补天，精卫填海；刀耕火种，茹毛饮血皆成沧海桑田，神话注解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对于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政治家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，它是一局下不完的棋。雄关危塞，龙楼凤阁；阿房宫冷，铜雀名荒，古今多少事，都在棋盘中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对于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文学家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来说，它是万宏不息的鸿篇巨制。楚辞汉赋，关曲曹梦；李杜诗歌，韩柳文章，皆成绝版经典，千古传唱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矩形 45059"/>
          <p:cNvSpPr txBox="1"/>
          <p:nvPr/>
        </p:nvSpPr>
        <p:spPr>
          <a:xfrm>
            <a:off x="685800" y="304920"/>
            <a:ext cx="6324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ff"/>
                  </a:solidFill>
                  <a:round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还有人认为</a:t>
            </a:r>
            <a:r>
              <a:rPr b="0" lang="en-US" sz="1800" spc="1" strike="noStrike">
                <a:ln w="12600">
                  <a:solidFill>
                    <a:srgbClr val="0000ff"/>
                  </a:solidFill>
                  <a:round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,</a:t>
            </a:r>
            <a:r>
              <a:rPr b="0" lang="zh-CN" sz="1800" spc="1" strike="noStrike">
                <a:ln w="12600">
                  <a:solidFill>
                    <a:srgbClr val="0000ff"/>
                  </a:solidFill>
                  <a:round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人生是</a:t>
            </a:r>
            <a:r>
              <a:rPr b="0" lang="en-US" sz="1800" spc="1" strike="noStrike">
                <a:ln w="12600">
                  <a:solidFill>
                    <a:srgbClr val="0000ff"/>
                  </a:solidFill>
                  <a:round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:</a:t>
            </a:r>
            <a:endParaRPr b="0" lang="en-US" sz="1800" spc="1" strike="noStrike">
              <a:ln w="12600">
                <a:solidFill>
                  <a:srgbClr val="0000ff"/>
                </a:solidFill>
                <a:round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01680" y="761760"/>
            <a:ext cx="8540640" cy="53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对于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农民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来说，它是一方凝重的田园。暮云春树，沧桑几度；春耕夏耘，汗滴干土，赢得稻花飘香，粮粟盈仓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对于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学子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，它是一曲寒窗数载，苦读成名的歌。悬梁刺股，映雪囊萤；凿壁偷光，程门立雪，换来金榜题名，振国兴邦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0"/>
            <a:ext cx="442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宋体"/>
              </a:rPr>
              <a:t>课堂小结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9140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冰心在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谈生命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一文中说过，“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不是每一道江流都能入海，不流动的便成为死湖；不是每一粒种子都能成树，不生长的便成了空壳。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”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活着，是生命的一种形式，珍惜才是对生命最有价值的修饰，珍惜自己，你就能挟卷滚滚沙石，快乐勇敢地奔流，投进大海温馨博大的怀抱；珍惜自己，你就会从地下破土而出，长成一棵小树，听到黄莺的歌唱。人生是寂寞的，犹如寂然无声的荒野；人生是永恒的，犹如奔流不息的逝水；人生也是辉煌的，如果我们轰轰烈烈地走过一生。让我们走好每一步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!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952880" y="685440"/>
            <a:ext cx="388944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</a:rPr>
              <a:t>屈原说：“</a:t>
            </a:r>
            <a:r>
              <a:rPr b="0" lang="zh-CN" sz="6600" spc="-1" strike="noStrike">
                <a:solidFill>
                  <a:srgbClr val="ff3300"/>
                </a:solidFill>
                <a:latin typeface="Arial"/>
              </a:rPr>
              <a:t>路漫漫其修远兮，吾将上下而求索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</a:rPr>
              <a:t>。”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0" name="图片 52228" descr="xquyuanx屈原"/>
          <p:cNvPicPr/>
          <p:nvPr/>
        </p:nvPicPr>
        <p:blipFill>
          <a:blip r:embed="rId1"/>
          <a:stretch/>
        </p:blipFill>
        <p:spPr>
          <a:xfrm>
            <a:off x="380880" y="457200"/>
            <a:ext cx="4343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44036" descr="041104歌"/>
          <p:cNvPicPr/>
          <p:nvPr/>
        </p:nvPicPr>
        <p:blipFill>
          <a:blip r:embed="rId1"/>
          <a:stretch/>
        </p:blipFill>
        <p:spPr>
          <a:xfrm>
            <a:off x="228600" y="685800"/>
            <a:ext cx="8458200" cy="5715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191120" y="91404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歌德说：“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只有经历过人生的辛苦才知道人生的真价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。”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文本框 44035"/>
          <p:cNvSpPr/>
          <p:nvPr/>
        </p:nvSpPr>
        <p:spPr>
          <a:xfrm>
            <a:off x="6004080" y="1165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124080"/>
            <a:ext cx="8839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巴金说：“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我常将生命比之于流水。这股水流从生命的源头流下来，永远在动荡，在创造它的道路，通过乱山碎石，以达到那惟一的生命之海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。”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5" name="图片 43013" descr="xinsrc_5021101250956233207364巴金"/>
          <p:cNvPicPr/>
          <p:nvPr/>
        </p:nvPicPr>
        <p:blipFill>
          <a:blip r:embed="rId1"/>
          <a:stretch/>
        </p:blipFill>
        <p:spPr>
          <a:xfrm>
            <a:off x="0" y="609480"/>
            <a:ext cx="8686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7760" y="609480"/>
            <a:ext cx="5715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奥斯特洛夫斯基说：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“</a:t>
            </a:r>
            <a:r>
              <a:rPr b="1" lang="zh-CN" sz="4800" spc="-1" strike="noStrike">
                <a:solidFill>
                  <a:srgbClr val="dc5900"/>
                </a:solidFill>
                <a:latin typeface="宋体"/>
              </a:rPr>
              <a:t>人的一生应当这样度过，当他回忆往事 的时候，不因虚度年华而悔恨，也不因碌碌无为而羞耻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。”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4419360"/>
            <a:ext cx="838512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8" name="图片 28676" descr="F2004033008225600000"/>
          <p:cNvPicPr/>
          <p:nvPr/>
        </p:nvPicPr>
        <p:blipFill>
          <a:blip r:embed="rId1"/>
          <a:stretch/>
        </p:blipFill>
        <p:spPr>
          <a:xfrm>
            <a:off x="304920" y="533520"/>
            <a:ext cx="2666880" cy="457200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28677"/>
          <p:cNvSpPr/>
          <p:nvPr/>
        </p:nvSpPr>
        <p:spPr>
          <a:xfrm>
            <a:off x="228600" y="5181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钢铁是怎样炼成的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191120" y="609120"/>
            <a:ext cx="4651200" cy="54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萨拉</a:t>
            </a:r>
            <a:r>
              <a:rPr b="1" lang="en-US" sz="5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意大利</a:t>
            </a:r>
            <a:r>
              <a:rPr b="1" lang="en-US" sz="5400" spc="-1" strike="noStrike">
                <a:solidFill>
                  <a:srgbClr val="5c5a5a"/>
                </a:solidFill>
                <a:latin typeface="宋体"/>
              </a:rPr>
              <a:t>AC</a:t>
            </a:r>
            <a:r>
              <a:rPr b="1" lang="zh-CN" sz="5400" spc="-1" strike="noStrike">
                <a:solidFill>
                  <a:srgbClr val="5c5a5a"/>
                </a:solidFill>
                <a:latin typeface="宋体"/>
              </a:rPr>
              <a:t>米兰队担任主力右后卫 </a:t>
            </a:r>
            <a:r>
              <a:rPr b="1" lang="en-US" sz="5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说：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“</a:t>
            </a:r>
            <a:r>
              <a:rPr b="1" lang="zh-CN" sz="5400" spc="-1" strike="noStrike">
                <a:solidFill>
                  <a:srgbClr val="dc5900"/>
                </a:solidFill>
                <a:latin typeface="宋体"/>
              </a:rPr>
              <a:t>生命是一条美丽而曲折的幽径</a:t>
            </a:r>
            <a:r>
              <a:rPr b="1" lang="zh-CN" sz="54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”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1" name="图片 51204" descr="1_6-111-2437-2535_2003082511021萨"/>
          <p:cNvPicPr/>
          <p:nvPr/>
        </p:nvPicPr>
        <p:blipFill>
          <a:blip r:embed="rId1"/>
          <a:stretch/>
        </p:blipFill>
        <p:spPr>
          <a:xfrm>
            <a:off x="380880" y="685800"/>
            <a:ext cx="3581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27655" descr="wfta"/>
          <p:cNvPicPr/>
          <p:nvPr/>
        </p:nvPicPr>
        <p:blipFill>
          <a:blip r:embed="rId1"/>
          <a:stretch/>
        </p:blipFill>
        <p:spPr>
          <a:xfrm>
            <a:off x="304920" y="457200"/>
            <a:ext cx="3657600" cy="6019920"/>
          </a:xfrm>
          <a:prstGeom prst="rect">
            <a:avLst/>
          </a:prstGeom>
          <a:ln w="0">
            <a:noFill/>
          </a:ln>
        </p:spPr>
      </p:pic>
      <p:sp>
        <p:nvSpPr>
          <p:cNvPr id="103" name="文本框 27649"/>
          <p:cNvSpPr/>
          <p:nvPr/>
        </p:nvSpPr>
        <p:spPr>
          <a:xfrm>
            <a:off x="1012680" y="944640"/>
            <a:ext cx="45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矩形 27652"/>
          <p:cNvSpPr txBox="1"/>
          <p:nvPr/>
        </p:nvSpPr>
        <p:spPr>
          <a:xfrm>
            <a:off x="5257800" y="4800600"/>
            <a:ext cx="1828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勃兰兑斯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文本框 27653"/>
          <p:cNvSpPr/>
          <p:nvPr/>
        </p:nvSpPr>
        <p:spPr>
          <a:xfrm>
            <a:off x="5699160" y="1546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矩形 27654"/>
          <p:cNvSpPr txBox="1"/>
          <p:nvPr/>
        </p:nvSpPr>
        <p:spPr>
          <a:xfrm>
            <a:off x="2362320" y="1600200"/>
            <a:ext cx="42670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人生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00:35:24Z</dcterms:created>
  <dc:creator>abc</dc:creator>
  <dc:description/>
  <dc:language>en-US</dc:language>
  <cp:lastModifiedBy>Administrator</cp:lastModifiedBy>
  <dcterms:modified xsi:type="dcterms:W3CDTF">2017-01-10T04:22:49Z</dcterms:modified>
  <cp:revision>16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